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77C-F865-44D6-933C-6D43BB45FA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8DA5-C974-42CD-989E-4727E0E2FF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C37-98F9-4015-BD35-AD53FB77A3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061-F881-458C-8F60-FD4CB072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F6E-C43B-492D-9566-6B0FEF5A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45F-78B9-4A1E-8A99-71070B60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FC-447C-4DE4-9FE0-92A0A68E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FA8B-A3D2-41EB-B02F-6DD2D769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86B-FEE4-445C-A5B9-3D0D514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61A-8DD3-449D-BFA4-6B1EC5D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BAC-A487-414C-9263-4137EAB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90A-3889-4284-B4C7-ECBBB1C8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CC6-A415-499C-B7C7-E7EAC546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0FEE-E2D6-4E4A-925C-B092D3D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FB8-2ED5-439D-8216-07E71F1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B2C-E4EC-444F-A787-4D6C5E3C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88BF-03ED-4D22-9AEC-70A79F3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F5F-57EF-4E1B-A844-915C3EBE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001-D91A-4C54-AAAF-27B5BE11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81F-3811-44C3-AAF8-B669373A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F6F1-CA68-4702-95AD-6E23CFA3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4A4B-B675-410F-BA91-3D054BA4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45EE-EC6D-4B39-A82D-FDC168B9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1C25-347A-46C0-9420-3E2DB69C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7A63-3556-4D86-A97B-4B903A5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50F-3A66-42F9-A7B7-A088650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9D9B-68D6-45F1-AC4A-99FD14D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FFA9-1C5D-47E6-ADF1-3C56C7F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1E62-7502-4FAD-819F-D922452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F813-CD2B-43E1-84E2-A22914A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43B4-CBE6-49D7-A1ED-2B9068CE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D2F7-811B-41EA-9A29-6DDE10B1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D879-1A88-42B4-BC18-0BE0879E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A845-A3EA-43A0-9BBE-BAD245A5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7C22-6268-41E6-844D-6F74E1D3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7047-7D1A-4C5A-AA7B-0BBC30C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C16-9BEA-4F83-B92B-A0D458B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6B5A-B0F6-465F-9BBE-18627693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E726-9032-4D27-B7C1-27CD262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8481-4EE0-442A-B6A3-2392D09B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D7ED-307F-45BD-B941-55F778A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0987-008B-4A50-98EC-B2C9D8D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5FBF-9B57-4F60-905A-DC86804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B2EC-197A-4FFE-9E3D-9D85A2C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0578-387C-46DE-BB42-C47B42B8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B60B-48BC-4F45-A38F-A0FBE1B2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3521-4B6C-42B7-9CEA-D2E2CB03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6E1-C2FE-4758-9631-FCB9E750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0D1D-B75F-458C-A7CC-B3C2DC4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C6B4-DF3C-4E86-9C82-FB97E0F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609C-73E0-4892-8725-6216D9A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78BA-7DD5-4E4C-9485-48232C69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6871-23B9-4E00-8044-BE28B3CA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390F-A85D-4DD1-A2CE-7C3C8E1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CB6B5-9D98-4233-9CF6-445B8495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BDFF-58A1-44E8-BAAA-A1FE490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3A7F-9264-4631-AAA0-CB7F636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4051-F9F2-4A80-B4A9-62CA99C0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46B-C824-423E-A210-7BCDA46E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1B0E-94BD-4146-B3A1-41EE3778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A18E-559B-48C4-883D-18E5BEC6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4573-C08B-496C-8251-7A2CA53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991A-95C7-43AD-8BD0-B54ECCA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63DA5-CE23-4636-87D6-5FD501E5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206F-4107-4D5A-BE49-7591F7FB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58FE-4E6A-4214-9492-336E0299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3457-591A-4013-89EC-46D4F33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63846-39BD-4DDE-A6C5-C807210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E680-3189-4161-B456-DCEAC061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084-0507-4BCF-AB52-A03E7B2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BC96-D39E-47EB-8160-57C3ACC2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2FE47-99D1-4D6A-AAA2-06CC1B16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683A-29C2-4D19-BCC1-A19408CB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946-BF8D-4A8A-B331-4F4CE02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F69-9F5D-4C10-8CC3-C823169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7254-6D30-4308-BFD0-BD5B3582004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582-2213-4D64-960F-91946666F4E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91E5-8F46-43C2-A239-4D8389E717C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267-2DDD-40E9-8163-2C4CB3EF0DCD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D195-CD47-4879-93C7-44CE82E2841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D19-1D22-4AF4-9823-7E622A8017C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190D-224E-47CB-BC9D-7D34F7686BA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756-6B1D-4682-9079-7B397DE730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CB37-C9F9-4415-9FE9-CC3D9AE8B68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77D-CCCA-4316-9D81-D6F3ECD8AE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2E8C-72B4-4507-84B5-91D239EDB75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95A-36A8-4BB1-8896-25001542F9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Outubr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nov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15059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449080" cy="50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92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Outubro (2016 e 2017) – Em R$ milhões de Outu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-28440" y="1685880"/>
            <a:ext cx="121917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Outubr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916280"/>
            <a:ext cx="121921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Outu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1921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12-04T14:13:02Z</dcterms:modified>
  <cp:revision>444</cp:revision>
  <dc:subject/>
  <dc:title>Demografia</dc:title>
</cp:coreProperties>
</file>